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9CA7-1E1A-4172-8A48-BC602853C31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87E2-C6A9-46ED-8387-6115A04CC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9DC-ED58-4C43-91A9-5BFD4192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D07-CFA6-4536-8521-1117322F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F62-1818-408C-869B-3C3A688C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F8D0-6A99-4EC4-B3B4-B00F0500D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B53B-6123-4950-9B65-1BC9ADC2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D5B1-EEC5-4353-9C55-ED8B1958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3A1F-4203-459F-954D-C97A1193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8253-3478-4766-917F-DC630E04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8754-DBD1-432E-AEA9-7F0820E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7944-B379-41D5-A243-23CC6F3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F846-9213-4FB2-9CBC-13C6B126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9F90-D14B-4ED3-9DED-E3F31BB3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30AE-7AFE-4022-849D-DB6B49A0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75C7-CBD7-495B-858A-EF95A331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BCF4-56D3-4E4A-BA93-AB306F1E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8780-5FF4-4530-A290-D4E544A3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1A4-595C-4E2B-991D-5FDF67EE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42E9-822A-4096-B124-4ACAFF7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ED1-3B39-42D3-9871-184BC04D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546-7D4B-48A6-BE4F-E5BE74AC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451-E6F2-4790-943B-4A9BE70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7EFB-8995-45C8-BEEF-777F2939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3FC-C175-4F5F-8025-599484D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9568-C652-4A5E-94D0-089A7983FAC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FCCC-1420-46C6-8F70-FFA7D5DDB6B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33:21Z</dcterms:modified>
  <cp:revision>4</cp:revision>
  <dc:subject/>
  <dc:title>The 3 C’s</dc:title>
</cp:coreProperties>
</file>